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14D-B242-4913-B4C2-9B642EFB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499-2928-4BB2-94D9-F4CE6A2E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040-7FA1-4FEC-A683-84494A05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0E2-6D5E-40B2-BF57-F7D174A1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30A-D30E-4BD0-A231-26A50ED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7DD-7DE1-45D5-8F58-8DEB2D49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337-0FF8-41AB-BF71-CCBA59CF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A36-3F59-449B-94F7-099509B7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DF6-EAF3-45D2-B490-6F76CBE8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A4A-B5C3-47BA-B98A-24F5723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103-034A-4C13-9EFF-AEF05828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CB7-867B-4CAD-9117-3B768EE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7ED3-6DCB-4F12-AA81-4522615B0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Kam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3657600" y="33480"/>
            <a:ext cx="220968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mony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Ro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Th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Har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Willi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Th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Rob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22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 Going Inside We Have A Play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Lin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Dinner We Have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Play Times We Have T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0:57:52Z</dcterms:created>
  <dc:creator>4glenb2</dc:creator>
  <dc:description/>
  <dc:language>en-US</dc:language>
  <cp:lastModifiedBy>4glenb2</cp:lastModifiedBy>
  <dcterms:modified xsi:type="dcterms:W3CDTF">2009-09-30T10:59:02Z</dcterms:modified>
  <cp:revision>1</cp:revision>
  <dc:subject/>
  <dc:title>Our School</dc:title>
</cp:coreProperties>
</file>